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FF0A-E763-447B-9CD1-8C153E8A2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53F7-AE1C-459A-9A17-FA1AFDD35F1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705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Программа формирования КК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Блок-схема: память с прямым доступом 2"/>
          <p:cNvSpPr/>
          <p:nvPr/>
        </p:nvSpPr>
        <p:spPr>
          <a:xfrm>
            <a:off x="914400" y="1752480"/>
            <a:ext cx="3505320" cy="99072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Формирование команды,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включающий в себя Управление ЦЗН, 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руководителей ЦЗН,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стейкхолдеров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Блок-схема: память с прямым доступом 5"/>
          <p:cNvSpPr/>
          <p:nvPr/>
        </p:nvSpPr>
        <p:spPr>
          <a:xfrm>
            <a:off x="838080" y="4191120"/>
            <a:ext cx="3505320" cy="91440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Сбор предложений (мозговой штурм)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по включению в кодекс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Блок-схема: память с прямым доступом 6"/>
          <p:cNvSpPr/>
          <p:nvPr/>
        </p:nvSpPr>
        <p:spPr>
          <a:xfrm>
            <a:off x="838080" y="5486400"/>
            <a:ext cx="3505320" cy="76212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Обобщение (создание)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единой системы -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Блок-схема: память с прямым доступом 7"/>
          <p:cNvSpPr/>
          <p:nvPr/>
        </p:nvSpPr>
        <p:spPr>
          <a:xfrm>
            <a:off x="838080" y="2895480"/>
            <a:ext cx="3505320" cy="91440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Ознакомление с опытом других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регионов в данном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направлении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Блок-схема: память с прямым доступом 8"/>
          <p:cNvSpPr/>
          <p:nvPr/>
        </p:nvSpPr>
        <p:spPr>
          <a:xfrm>
            <a:off x="5105520" y="5486400"/>
            <a:ext cx="3581280" cy="83808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Продвижение кодекса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в коллективах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30 дней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Блок-схема: память с прямым доступом 9"/>
          <p:cNvSpPr/>
          <p:nvPr/>
        </p:nvSpPr>
        <p:spPr>
          <a:xfrm>
            <a:off x="5181480" y="4267080"/>
            <a:ext cx="3505320" cy="91440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Утверждение кодекса ККЦ  -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 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Блок-схема: память с прямым доступом 10"/>
          <p:cNvSpPr/>
          <p:nvPr/>
        </p:nvSpPr>
        <p:spPr>
          <a:xfrm>
            <a:off x="5181480" y="3124080"/>
            <a:ext cx="3581640" cy="83844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Открытое обсуждение кодекса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Блок-схема: память с прямым доступом 11"/>
          <p:cNvSpPr/>
          <p:nvPr/>
        </p:nvSpPr>
        <p:spPr>
          <a:xfrm>
            <a:off x="5105520" y="1828800"/>
            <a:ext cx="3581280" cy="99072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Формирование проекта кодекса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2 недели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4-конечная звезда 16"/>
          <p:cNvSpPr/>
          <p:nvPr/>
        </p:nvSpPr>
        <p:spPr>
          <a:xfrm>
            <a:off x="152280" y="1981080"/>
            <a:ext cx="609840" cy="457200"/>
          </a:xfrm>
          <a:custGeom>
            <a:avLst/>
            <a:gdLst>
              <a:gd name="textAreaLeft" fmla="*/ 251280 w 609840"/>
              <a:gd name="textAreaRight" fmla="*/ 358560 w 60984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4-конечная звезда 17"/>
          <p:cNvSpPr/>
          <p:nvPr/>
        </p:nvSpPr>
        <p:spPr>
          <a:xfrm>
            <a:off x="228600" y="31240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4-конечная звезда 20"/>
          <p:cNvSpPr/>
          <p:nvPr/>
        </p:nvSpPr>
        <p:spPr>
          <a:xfrm>
            <a:off x="4572000" y="213372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4-конечная звезда 21"/>
          <p:cNvSpPr/>
          <p:nvPr/>
        </p:nvSpPr>
        <p:spPr>
          <a:xfrm>
            <a:off x="228600" y="5638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4-конечная звезда 22"/>
          <p:cNvSpPr/>
          <p:nvPr/>
        </p:nvSpPr>
        <p:spPr>
          <a:xfrm>
            <a:off x="4572000" y="457200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4-конечная звезда 23"/>
          <p:cNvSpPr/>
          <p:nvPr/>
        </p:nvSpPr>
        <p:spPr>
          <a:xfrm>
            <a:off x="228600" y="441972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4-конечная звезда 24"/>
          <p:cNvSpPr/>
          <p:nvPr/>
        </p:nvSpPr>
        <p:spPr>
          <a:xfrm>
            <a:off x="4572000" y="327672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4-конечная звезда 25"/>
          <p:cNvSpPr/>
          <p:nvPr/>
        </p:nvSpPr>
        <p:spPr>
          <a:xfrm>
            <a:off x="4495680" y="571500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i="1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Авторский коллектив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Бирциев Али Халидович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Чеченская республика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Комолова Саглара Санловна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Республика Калмыкия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Брель Анна Евгеньевна (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еспублики Адыгея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анфилова Елена Викторовна (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остовская область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Дзитоева Фатима Савельевна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Республика Северная Осетия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КуйтембетоваЭльмира Карабалаевна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Астраханская область)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Эмиркулиева Динара Игидовна 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Республика Дагестан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Цой Татьяна Михайловна  (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Омская область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Турянская Наталья Викторовна (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остовская область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Габиева Ека Давидовна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(Республика Северная Осетия-Алания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838080" y="685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а № 9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Евгений Аверьянов</cp:lastModifiedBy>
  <dcterms:modified xsi:type="dcterms:W3CDTF">2022-10-14T09:11:17Z</dcterms:modified>
  <cp:revision>286</cp:revision>
  <dc:subject/>
  <dc:title>Name of presentation</dc:title>
</cp:coreProperties>
</file>